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WHOOSH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B9B2-ECF3-4463-A672-4E2973A1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D17-97AF-449F-97A5-3E697DDB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B2A2-7FC6-4C26-B8F5-D5AC942D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282-7131-45DF-B427-8D27C4E1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5C8-6C20-4A61-B903-70DF7C19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BE2-5BFC-4A7E-AB82-1252B092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1A37-B137-451D-809A-4E3344F1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68C6-C1B1-467D-9509-976AE93C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4A7-D114-4C0E-BD10-0DDE64A9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6BE-E143-4C0F-B9F3-294EDE8F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A726-649A-48F8-9857-39B7A52B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72E-FA65-4AE8-B3F2-0611321E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48E4-9650-4406-8BBB-1CF11B209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1371600"/>
            <a:ext cx="8493120" cy="4753080"/>
            <a:chOff x="228600" y="1371600"/>
            <a:chExt cx="8493120" cy="4753080"/>
          </a:xfrm>
        </p:grpSpPr>
        <p:sp>
          <p:nvSpPr>
            <p:cNvPr id="44" name=""/>
            <p:cNvSpPr/>
            <p:nvPr/>
          </p:nvSpPr>
          <p:spPr>
            <a:xfrm>
              <a:off x="228600" y="1371600"/>
              <a:ext cx="6781680" cy="47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A box company makes boxes to hold popcorn. Each box is made by cutting the square corners out of a rectangular sheet of cardboard. The rectangle is 8    in. by 11 in. What are the dimensions of the box that will hold the most popcorn if the square corners have side lengths 1 in., 2 in., 3 in., and 4 in.?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6858000" y="1905120"/>
              <a:ext cx="1863720" cy="22096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6" name=""/>
            <p:cNvGraphicFramePr/>
            <p:nvPr/>
          </p:nvGraphicFramePr>
          <p:xfrm>
            <a:off x="3505320" y="3352680"/>
            <a:ext cx="558720" cy="838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05320" y="3352680"/>
                      <a:ext cx="55872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315200" y="3809880"/>
                <a:ext cx="11541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251240" y="4724280"/>
                <a:ext cx="8463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2743200" y="3565440"/>
            <a:ext cx="5029200" cy="1006560"/>
          </a:xfrm>
          <a:custGeom>
            <a:avLst/>
            <a:gdLst/>
            <a:ahLst/>
            <a:rect l="l" t="t" r="r" b="b"/>
            <a:pathLst>
              <a:path w="3168" h="672">
                <a:moveTo>
                  <a:pt x="0" y="672"/>
                </a:moveTo>
                <a:lnTo>
                  <a:pt x="2592" y="672"/>
                </a:lnTo>
                <a:lnTo>
                  <a:pt x="3168" y="0"/>
                </a:lnTo>
                <a:lnTo>
                  <a:pt x="576" y="0"/>
                </a:lnTo>
                <a:lnTo>
                  <a:pt x="0" y="67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666880"/>
            <a:ext cx="5029200" cy="1067040"/>
          </a:xfrm>
          <a:custGeom>
            <a:avLst/>
            <a:gdLst/>
            <a:ahLst/>
            <a:rect l="l" t="t" r="r" b="b"/>
            <a:pathLst>
              <a:path w="3168" h="672">
                <a:moveTo>
                  <a:pt x="0" y="672"/>
                </a:moveTo>
                <a:lnTo>
                  <a:pt x="2592" y="672"/>
                </a:lnTo>
                <a:lnTo>
                  <a:pt x="3168" y="0"/>
                </a:lnTo>
                <a:lnTo>
                  <a:pt x="576" y="0"/>
                </a:lnTo>
                <a:lnTo>
                  <a:pt x="0" y="672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1120" y="3657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127160" y="4056120"/>
                <a:ext cx="846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2743200" y="2666880"/>
            <a:ext cx="914400" cy="1905120"/>
          </a:xfrm>
          <a:custGeom>
            <a:avLst/>
            <a:gdLst/>
            <a:ahLst/>
            <a:rect l="l" t="t" r="r" b="b"/>
            <a:pathLst>
              <a:path w="576" h="1200">
                <a:moveTo>
                  <a:pt x="0" y="1200"/>
                </a:moveTo>
                <a:lnTo>
                  <a:pt x="576" y="576"/>
                </a:lnTo>
                <a:lnTo>
                  <a:pt x="576" y="0"/>
                </a:lnTo>
                <a:lnTo>
                  <a:pt x="0" y="672"/>
                </a:lnTo>
                <a:lnTo>
                  <a:pt x="0" y="12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2666880"/>
            <a:ext cx="914400" cy="1905120"/>
          </a:xfrm>
          <a:custGeom>
            <a:avLst/>
            <a:gdLst/>
            <a:ahLst/>
            <a:rect l="l" t="t" r="r" b="b"/>
            <a:pathLst>
              <a:path w="576" h="1200">
                <a:moveTo>
                  <a:pt x="0" y="1200"/>
                </a:moveTo>
                <a:lnTo>
                  <a:pt x="576" y="576"/>
                </a:lnTo>
                <a:lnTo>
                  <a:pt x="576" y="0"/>
                </a:lnTo>
                <a:lnTo>
                  <a:pt x="0" y="672"/>
                </a:lnTo>
                <a:lnTo>
                  <a:pt x="0" y="12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09480" y="1447920"/>
            <a:ext cx="8001000" cy="3200400"/>
            <a:chOff x="609480" y="1447920"/>
            <a:chExt cx="8001000" cy="3200400"/>
          </a:xfrm>
        </p:grpSpPr>
        <p:grpSp>
          <p:nvGrpSpPr>
            <p:cNvPr id="214" name=""/>
            <p:cNvGrpSpPr/>
            <p:nvPr/>
          </p:nvGrpSpPr>
          <p:grpSpPr>
            <a:xfrm>
              <a:off x="609480" y="1447920"/>
              <a:ext cx="8001000" cy="3200400"/>
              <a:chOff x="609480" y="1447920"/>
              <a:chExt cx="8001000" cy="3200400"/>
            </a:xfrm>
          </p:grpSpPr>
          <p:sp>
            <p:nvSpPr>
              <p:cNvPr id="215" name=""/>
              <p:cNvSpPr/>
              <p:nvPr/>
            </p:nvSpPr>
            <p:spPr>
              <a:xfrm>
                <a:off x="609480" y="1447920"/>
                <a:ext cx="8001000" cy="320040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2120" y="1523880"/>
                <a:ext cx="7619760" cy="30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Size of cut     Length     Width     Height       Volume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1 in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2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3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4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43828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862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578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6294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9480" y="20574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9480" y="27432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09480" y="34290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09480" y="403848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24382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9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098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6.5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814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9400" y="2209680"/>
              <a:ext cx="182880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8.5 in</a:t>
              </a:r>
              <a:r>
                <a:rPr b="1" lang="en-US" sz="2400" spc="-1" strike="noStrike" baseline="6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371600" y="4724280"/>
            <a:ext cx="5806800" cy="1938240"/>
            <a:chOff x="1371600" y="4724280"/>
            <a:chExt cx="5806800" cy="1938240"/>
          </a:xfrm>
        </p:grpSpPr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6265800" y="5599080"/>
                  <a:ext cx="912600" cy="80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3842280" y="6299280"/>
                  <a:ext cx="66888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649600" y="5411880"/>
              <a:ext cx="3977640" cy="770400"/>
            </a:xfrm>
            <a:custGeom>
              <a:avLst/>
              <a:gdLst/>
              <a:ahLst/>
              <a:rect l="l" t="t" r="r" b="b"/>
              <a:pathLst>
                <a:path w="3168" h="672">
                  <a:moveTo>
                    <a:pt x="0" y="672"/>
                  </a:moveTo>
                  <a:lnTo>
                    <a:pt x="2592" y="672"/>
                  </a:lnTo>
                  <a:lnTo>
                    <a:pt x="3168" y="0"/>
                  </a:lnTo>
                  <a:lnTo>
                    <a:pt x="576" y="0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49600" y="4724280"/>
              <a:ext cx="3977640" cy="816840"/>
            </a:xfrm>
            <a:custGeom>
              <a:avLst/>
              <a:gdLst/>
              <a:ahLst/>
              <a:rect l="l" t="t" r="r" b="b"/>
              <a:pathLst>
                <a:path w="3168" h="672">
                  <a:moveTo>
                    <a:pt x="0" y="672"/>
                  </a:moveTo>
                  <a:lnTo>
                    <a:pt x="2592" y="672"/>
                  </a:lnTo>
                  <a:lnTo>
                    <a:pt x="3168" y="0"/>
                  </a:lnTo>
                  <a:lnTo>
                    <a:pt x="576" y="0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94400" y="5482440"/>
              <a:ext cx="722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1371600" y="5787720"/>
                  <a:ext cx="66888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2649600" y="4724280"/>
              <a:ext cx="722880" cy="1458360"/>
            </a:xfrm>
            <a:custGeom>
              <a:avLst/>
              <a:gdLst/>
              <a:ahLst/>
              <a:rect l="l" t="t" r="r" b="b"/>
              <a:pathLst>
                <a:path w="576" h="1200">
                  <a:moveTo>
                    <a:pt x="0" y="1200"/>
                  </a:moveTo>
                  <a:lnTo>
                    <a:pt x="576" y="576"/>
                  </a:lnTo>
                  <a:lnTo>
                    <a:pt x="576" y="0"/>
                  </a:lnTo>
                  <a:lnTo>
                    <a:pt x="0" y="672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04000" y="4724280"/>
              <a:ext cx="722880" cy="1458360"/>
            </a:xfrm>
            <a:custGeom>
              <a:avLst/>
              <a:gdLst/>
              <a:ahLst/>
              <a:rect l="l" t="t" r="r" b="b"/>
              <a:pathLst>
                <a:path w="576" h="1200">
                  <a:moveTo>
                    <a:pt x="0" y="1200"/>
                  </a:moveTo>
                  <a:lnTo>
                    <a:pt x="576" y="576"/>
                  </a:lnTo>
                  <a:lnTo>
                    <a:pt x="576" y="0"/>
                  </a:lnTo>
                  <a:lnTo>
                    <a:pt x="0" y="672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4382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7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629400" y="2819520"/>
            <a:ext cx="18288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 in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09480" y="1447920"/>
            <a:ext cx="8001000" cy="3200400"/>
            <a:chOff x="609480" y="1447920"/>
            <a:chExt cx="8001000" cy="3200400"/>
          </a:xfrm>
        </p:grpSpPr>
        <p:grpSp>
          <p:nvGrpSpPr>
            <p:cNvPr id="245" name=""/>
            <p:cNvGrpSpPr/>
            <p:nvPr/>
          </p:nvGrpSpPr>
          <p:grpSpPr>
            <a:xfrm>
              <a:off x="609480" y="1447920"/>
              <a:ext cx="8001000" cy="3200400"/>
              <a:chOff x="609480" y="1447920"/>
              <a:chExt cx="8001000" cy="3200400"/>
            </a:xfrm>
          </p:grpSpPr>
          <p:sp>
            <p:nvSpPr>
              <p:cNvPr id="246" name=""/>
              <p:cNvSpPr/>
              <p:nvPr/>
            </p:nvSpPr>
            <p:spPr>
              <a:xfrm>
                <a:off x="609480" y="1447920"/>
                <a:ext cx="8001000" cy="320040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2120" y="1523880"/>
                <a:ext cx="7619760" cy="30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Size of cut     Length     Width     Height       Volume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1 in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2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3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4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3828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862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578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6294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9480" y="20574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09480" y="27432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9480" y="34290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09480" y="403848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24382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9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098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6.5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814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29400" y="2209680"/>
              <a:ext cx="182880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8.5 in</a:t>
              </a:r>
              <a:r>
                <a:rPr b="1" lang="en-US" sz="2400" spc="-1" strike="noStrike" baseline="6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4382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7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629400" y="2819520"/>
            <a:ext cx="18288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 in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35053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35053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35053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29400" y="3505320"/>
            <a:ext cx="18288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7.5 in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411480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411480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0.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81480" y="411480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29400" y="4114800"/>
            <a:ext cx="18288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 in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5181480"/>
            <a:ext cx="7620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7 in, by 4.5 in, by 2 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905120" y="2209680"/>
            <a:ext cx="6534000" cy="3259080"/>
            <a:chOff x="1905120" y="2209680"/>
            <a:chExt cx="6534000" cy="3259080"/>
          </a:xfrm>
        </p:grpSpPr>
        <p:sp>
          <p:nvSpPr>
            <p:cNvPr id="49" name=""/>
            <p:cNvSpPr/>
            <p:nvPr/>
          </p:nvSpPr>
          <p:spPr>
            <a:xfrm>
              <a:off x="1905120" y="2209680"/>
              <a:ext cx="5343480" cy="277344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7315200" y="2971800"/>
                  <a:ext cx="112392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4114800" y="5029200"/>
                  <a:ext cx="94932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1  i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676520" y="1981080"/>
            <a:ext cx="5790960" cy="3429000"/>
            <a:chOff x="1676520" y="1981080"/>
            <a:chExt cx="5790960" cy="3429000"/>
          </a:xfrm>
        </p:grpSpPr>
        <p:grpSp>
          <p:nvGrpSpPr>
            <p:cNvPr id="55" name=""/>
            <p:cNvGrpSpPr/>
            <p:nvPr/>
          </p:nvGrpSpPr>
          <p:grpSpPr>
            <a:xfrm>
              <a:off x="1676520" y="1981080"/>
              <a:ext cx="5790960" cy="3429000"/>
              <a:chOff x="1676520" y="1981080"/>
              <a:chExt cx="5790960" cy="3429000"/>
            </a:xfrm>
          </p:grpSpPr>
          <p:sp>
            <p:nvSpPr>
              <p:cNvPr id="56" name=""/>
              <p:cNvSpPr/>
              <p:nvPr/>
            </p:nvSpPr>
            <p:spPr>
              <a:xfrm>
                <a:off x="6629400" y="2209680"/>
                <a:ext cx="628560" cy="594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629400" y="4343400"/>
                <a:ext cx="628560" cy="5936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05120" y="4419720"/>
                <a:ext cx="628560" cy="5936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905120" y="2209680"/>
                <a:ext cx="628560" cy="5940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76520" y="1981080"/>
                <a:ext cx="838080" cy="7923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76520" y="4419720"/>
                <a:ext cx="838080" cy="9903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629400" y="4343400"/>
                <a:ext cx="838080" cy="9907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629400" y="1981080"/>
                <a:ext cx="838080" cy="79236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6629400" y="2209680"/>
                  <a:ext cx="8254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676520" y="1981080"/>
            <a:ext cx="6778440" cy="3487680"/>
            <a:chOff x="1676520" y="1981080"/>
            <a:chExt cx="6778440" cy="3487680"/>
          </a:xfrm>
        </p:grpSpPr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7300800" y="2971800"/>
                  <a:ext cx="115416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4114800" y="5027760"/>
                  <a:ext cx="94932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1  in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70" name=""/>
            <p:cNvGrpSpPr/>
            <p:nvPr/>
          </p:nvGrpSpPr>
          <p:grpSpPr>
            <a:xfrm>
              <a:off x="1676520" y="1981080"/>
              <a:ext cx="5790960" cy="3429000"/>
              <a:chOff x="1676520" y="1981080"/>
              <a:chExt cx="5790960" cy="3429000"/>
            </a:xfrm>
          </p:grpSpPr>
          <p:sp>
            <p:nvSpPr>
              <p:cNvPr id="71" name=""/>
              <p:cNvSpPr/>
              <p:nvPr/>
            </p:nvSpPr>
            <p:spPr>
              <a:xfrm>
                <a:off x="1905120" y="2209680"/>
                <a:ext cx="5343480" cy="277344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1676520" y="1981080"/>
                <a:ext cx="5790960" cy="3429000"/>
                <a:chOff x="1676520" y="1981080"/>
                <a:chExt cx="5790960" cy="34290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1676520" y="1981080"/>
                  <a:ext cx="5790960" cy="3429000"/>
                  <a:chOff x="1676520" y="1981080"/>
                  <a:chExt cx="5790960" cy="34290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6629400" y="2209680"/>
                    <a:ext cx="628560" cy="5940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6629400" y="4343400"/>
                    <a:ext cx="628560" cy="59364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905120" y="4419720"/>
                    <a:ext cx="628560" cy="59364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905120" y="2209680"/>
                    <a:ext cx="628560" cy="59400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676520" y="1981080"/>
                    <a:ext cx="838080" cy="79236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1676520" y="4419720"/>
                    <a:ext cx="838080" cy="99036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6629400" y="4343400"/>
                    <a:ext cx="838080" cy="99072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6629400" y="1981080"/>
                    <a:ext cx="838080" cy="79236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82" name=""/>
                    <p:cNvSpPr txBox="1"/>
                    <p:nvPr/>
                  </p:nvSpPr>
                  <p:spPr>
                    <a:xfrm>
                      <a:off x="6629400" y="2209680"/>
                      <a:ext cx="825480" cy="482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 i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76520" y="1981080"/>
            <a:ext cx="6778440" cy="3505320"/>
            <a:chOff x="1676520" y="1981080"/>
            <a:chExt cx="6778440" cy="3505320"/>
          </a:xfrm>
        </p:grpSpPr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7300800" y="2971800"/>
                  <a:ext cx="115416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4183200" y="5011560"/>
                  <a:ext cx="81252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8" name=""/>
            <p:cNvGrpSpPr/>
            <p:nvPr/>
          </p:nvGrpSpPr>
          <p:grpSpPr>
            <a:xfrm>
              <a:off x="1676520" y="1981080"/>
              <a:ext cx="5790960" cy="3429000"/>
              <a:chOff x="1676520" y="1981080"/>
              <a:chExt cx="5790960" cy="3429000"/>
            </a:xfrm>
          </p:grpSpPr>
          <p:sp>
            <p:nvSpPr>
              <p:cNvPr id="89" name=""/>
              <p:cNvSpPr/>
              <p:nvPr/>
            </p:nvSpPr>
            <p:spPr>
              <a:xfrm>
                <a:off x="1905120" y="2209680"/>
                <a:ext cx="5343480" cy="277344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1676520" y="1981080"/>
                <a:ext cx="5790960" cy="3429000"/>
                <a:chOff x="1676520" y="1981080"/>
                <a:chExt cx="5790960" cy="3429000"/>
              </a:xfrm>
            </p:grpSpPr>
            <p:grpSp>
              <p:nvGrpSpPr>
                <p:cNvPr id="91" name=""/>
                <p:cNvGrpSpPr/>
                <p:nvPr/>
              </p:nvGrpSpPr>
              <p:grpSpPr>
                <a:xfrm>
                  <a:off x="1676520" y="1981080"/>
                  <a:ext cx="5790960" cy="3429000"/>
                  <a:chOff x="1676520" y="1981080"/>
                  <a:chExt cx="5790960" cy="342900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6629400" y="2209680"/>
                    <a:ext cx="628560" cy="5940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6629400" y="4343400"/>
                    <a:ext cx="628560" cy="59364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905120" y="4419720"/>
                    <a:ext cx="628560" cy="59364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905120" y="2209680"/>
                    <a:ext cx="628560" cy="59400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676520" y="1981080"/>
                    <a:ext cx="838080" cy="79236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676520" y="4419720"/>
                    <a:ext cx="838080" cy="99036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629400" y="4343400"/>
                    <a:ext cx="838080" cy="99072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629400" y="1981080"/>
                    <a:ext cx="838080" cy="79236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00" name=""/>
                    <p:cNvSpPr txBox="1"/>
                    <p:nvPr/>
                  </p:nvSpPr>
                  <p:spPr>
                    <a:xfrm>
                      <a:off x="6629400" y="2209680"/>
                      <a:ext cx="825480" cy="482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 i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315200" y="3809880"/>
                <a:ext cx="11541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267080" y="4724280"/>
                <a:ext cx="812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2057400" y="3429000"/>
            <a:ext cx="5715000" cy="1143000"/>
          </a:xfrm>
          <a:custGeom>
            <a:avLst/>
            <a:gdLst/>
            <a:ahLst/>
            <a:rect l="l" t="t" r="r" b="b"/>
            <a:pathLst>
              <a:path w="3168" h="672">
                <a:moveTo>
                  <a:pt x="0" y="672"/>
                </a:moveTo>
                <a:lnTo>
                  <a:pt x="2592" y="672"/>
                </a:lnTo>
                <a:lnTo>
                  <a:pt x="3168" y="0"/>
                </a:lnTo>
                <a:lnTo>
                  <a:pt x="576" y="0"/>
                </a:lnTo>
                <a:lnTo>
                  <a:pt x="0" y="67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2819520"/>
            <a:ext cx="5715000" cy="1143000"/>
          </a:xfrm>
          <a:custGeom>
            <a:avLst/>
            <a:gdLst/>
            <a:ahLst/>
            <a:rect l="l" t="t" r="r" b="b"/>
            <a:pathLst>
              <a:path w="3168" h="672">
                <a:moveTo>
                  <a:pt x="0" y="672"/>
                </a:moveTo>
                <a:lnTo>
                  <a:pt x="2592" y="672"/>
                </a:lnTo>
                <a:lnTo>
                  <a:pt x="3168" y="0"/>
                </a:lnTo>
                <a:lnTo>
                  <a:pt x="576" y="0"/>
                </a:lnTo>
                <a:lnTo>
                  <a:pt x="0" y="672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3657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2819520"/>
            <a:ext cx="1066680" cy="175248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0" y="1104"/>
                </a:moveTo>
                <a:lnTo>
                  <a:pt x="672" y="384"/>
                </a:lnTo>
                <a:lnTo>
                  <a:pt x="672" y="0"/>
                </a:lnTo>
                <a:lnTo>
                  <a:pt x="0" y="720"/>
                </a:lnTo>
                <a:lnTo>
                  <a:pt x="0" y="1104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2819520"/>
            <a:ext cx="1066680" cy="175248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0" y="1104"/>
                </a:moveTo>
                <a:lnTo>
                  <a:pt x="672" y="384"/>
                </a:lnTo>
                <a:lnTo>
                  <a:pt x="672" y="0"/>
                </a:lnTo>
                <a:lnTo>
                  <a:pt x="0" y="720"/>
                </a:lnTo>
                <a:lnTo>
                  <a:pt x="0" y="1104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74680" y="4056120"/>
                <a:ext cx="7495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09480" y="1447920"/>
            <a:ext cx="8001000" cy="3200400"/>
            <a:chOff x="609480" y="1447920"/>
            <a:chExt cx="8001000" cy="3200400"/>
          </a:xfrm>
        </p:grpSpPr>
        <p:sp>
          <p:nvSpPr>
            <p:cNvPr id="114" name=""/>
            <p:cNvSpPr/>
            <p:nvPr/>
          </p:nvSpPr>
          <p:spPr>
            <a:xfrm>
              <a:off x="609480" y="1447920"/>
              <a:ext cx="8001000" cy="32004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1523880"/>
              <a:ext cx="761976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ize of cut     Length     Width     Height       Volum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 i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4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8280" y="14479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86200" y="14479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57800" y="14479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14479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480" y="205740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480" y="274320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342900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40384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438280" y="22096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9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2096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.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22096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2209680"/>
            <a:ext cx="18288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8.5 in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43000" y="4876920"/>
            <a:ext cx="6553080" cy="1676160"/>
            <a:chOff x="1143000" y="4876920"/>
            <a:chExt cx="6553080" cy="1676160"/>
          </a:xfrm>
        </p:grpSpPr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6659280" y="5574240"/>
                  <a:ext cx="103680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3920760" y="6218640"/>
                  <a:ext cx="730080" cy="33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1" name=""/>
            <p:cNvSpPr/>
            <p:nvPr/>
          </p:nvSpPr>
          <p:spPr>
            <a:xfrm>
              <a:off x="1935720" y="5306040"/>
              <a:ext cx="5133960" cy="804960"/>
            </a:xfrm>
            <a:custGeom>
              <a:avLst/>
              <a:gdLst/>
              <a:ahLst/>
              <a:rect l="l" t="t" r="r" b="b"/>
              <a:pathLst>
                <a:path w="3168" h="672">
                  <a:moveTo>
                    <a:pt x="0" y="672"/>
                  </a:moveTo>
                  <a:lnTo>
                    <a:pt x="2592" y="672"/>
                  </a:lnTo>
                  <a:lnTo>
                    <a:pt x="3168" y="0"/>
                  </a:lnTo>
                  <a:lnTo>
                    <a:pt x="576" y="0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35720" y="4876920"/>
              <a:ext cx="5133960" cy="804960"/>
            </a:xfrm>
            <a:custGeom>
              <a:avLst/>
              <a:gdLst/>
              <a:ahLst/>
              <a:rect l="l" t="t" r="r" b="b"/>
              <a:pathLst>
                <a:path w="3168" h="672">
                  <a:moveTo>
                    <a:pt x="0" y="672"/>
                  </a:moveTo>
                  <a:lnTo>
                    <a:pt x="2592" y="672"/>
                  </a:lnTo>
                  <a:lnTo>
                    <a:pt x="3168" y="0"/>
                  </a:lnTo>
                  <a:lnTo>
                    <a:pt x="576" y="0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720" y="5466960"/>
              <a:ext cx="82116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35720" y="4876920"/>
              <a:ext cx="957960" cy="1234440"/>
            </a:xfrm>
            <a:custGeom>
              <a:avLst/>
              <a:gdLst/>
              <a:ahLst/>
              <a:rect l="l" t="t" r="r" b="b"/>
              <a:pathLst>
                <a:path w="672" h="1104">
                  <a:moveTo>
                    <a:pt x="0" y="1104"/>
                  </a:moveTo>
                  <a:lnTo>
                    <a:pt x="672" y="384"/>
                  </a:lnTo>
                  <a:lnTo>
                    <a:pt x="672" y="0"/>
                  </a:lnTo>
                  <a:lnTo>
                    <a:pt x="0" y="72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11720" y="4876920"/>
              <a:ext cx="957960" cy="1234440"/>
            </a:xfrm>
            <a:custGeom>
              <a:avLst/>
              <a:gdLst/>
              <a:ahLst/>
              <a:rect l="l" t="t" r="r" b="b"/>
              <a:pathLst>
                <a:path w="672" h="1104">
                  <a:moveTo>
                    <a:pt x="0" y="1104"/>
                  </a:moveTo>
                  <a:lnTo>
                    <a:pt x="672" y="384"/>
                  </a:lnTo>
                  <a:lnTo>
                    <a:pt x="672" y="0"/>
                  </a:lnTo>
                  <a:lnTo>
                    <a:pt x="0" y="72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1143000" y="5747760"/>
                  <a:ext cx="67320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600200" y="1828800"/>
            <a:ext cx="6838920" cy="3639960"/>
            <a:chOff x="1600200" y="1828800"/>
            <a:chExt cx="6838920" cy="3639960"/>
          </a:xfrm>
        </p:grpSpPr>
        <p:grpSp>
          <p:nvGrpSpPr>
            <p:cNvPr id="140" name=""/>
            <p:cNvGrpSpPr/>
            <p:nvPr/>
          </p:nvGrpSpPr>
          <p:grpSpPr>
            <a:xfrm>
              <a:off x="1905120" y="2209680"/>
              <a:ext cx="6534000" cy="3259080"/>
              <a:chOff x="1905120" y="2209680"/>
              <a:chExt cx="6534000" cy="3259080"/>
            </a:xfrm>
          </p:grpSpPr>
          <p:sp>
            <p:nvSpPr>
              <p:cNvPr id="141" name=""/>
              <p:cNvSpPr/>
              <p:nvPr/>
            </p:nvSpPr>
            <p:spPr>
              <a:xfrm>
                <a:off x="1905120" y="2209680"/>
                <a:ext cx="5343480" cy="277344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2" name=""/>
                  <p:cNvSpPr txBox="1"/>
                  <p:nvPr/>
                </p:nvSpPr>
                <p:spPr>
                  <a:xfrm>
                    <a:off x="7315200" y="2971800"/>
                    <a:ext cx="1123920" cy="105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8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in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3" name=""/>
                  <p:cNvSpPr txBox="1"/>
                  <p:nvPr/>
                </p:nvSpPr>
                <p:spPr>
                  <a:xfrm>
                    <a:off x="4114800" y="5029200"/>
                    <a:ext cx="949320" cy="439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1  in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4" name=""/>
            <p:cNvSpPr/>
            <p:nvPr/>
          </p:nvSpPr>
          <p:spPr>
            <a:xfrm>
              <a:off x="6477120" y="2209680"/>
              <a:ext cx="780840" cy="738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9400" y="4343400"/>
              <a:ext cx="628560" cy="593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05120" y="4419720"/>
              <a:ext cx="628560" cy="593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2209680"/>
              <a:ext cx="628560" cy="594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76520" y="1981080"/>
              <a:ext cx="838080" cy="792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6520" y="4419720"/>
              <a:ext cx="838080" cy="990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29400" y="4343400"/>
              <a:ext cx="838080" cy="990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77120" y="1828800"/>
              <a:ext cx="1066680" cy="1066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6575400" y="2209680"/>
                  <a:ext cx="9334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6477120" y="4267080"/>
              <a:ext cx="780840" cy="7383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7120" y="4267080"/>
              <a:ext cx="1066680" cy="10670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05120" y="4267080"/>
              <a:ext cx="780840" cy="7383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1066680" cy="10670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05120" y="2209680"/>
              <a:ext cx="780840" cy="7383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0200" y="1828800"/>
              <a:ext cx="1066680" cy="1066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600200" y="1828800"/>
            <a:ext cx="6854760" cy="3639960"/>
            <a:chOff x="1600200" y="1828800"/>
            <a:chExt cx="6854760" cy="3639960"/>
          </a:xfrm>
        </p:grpSpPr>
        <p:sp>
          <p:nvSpPr>
            <p:cNvPr id="162" name=""/>
            <p:cNvSpPr/>
            <p:nvPr/>
          </p:nvSpPr>
          <p:spPr>
            <a:xfrm>
              <a:off x="1905120" y="2209680"/>
              <a:ext cx="5343480" cy="277344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7300800" y="2971800"/>
                  <a:ext cx="115416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4114800" y="5027760"/>
                  <a:ext cx="95076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1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6477120" y="2209680"/>
              <a:ext cx="780840" cy="738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29400" y="4343400"/>
              <a:ext cx="628560" cy="593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05120" y="4419720"/>
              <a:ext cx="628560" cy="593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05120" y="2209680"/>
              <a:ext cx="628560" cy="594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76520" y="1981080"/>
              <a:ext cx="838080" cy="792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76520" y="4419720"/>
              <a:ext cx="838080" cy="990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29400" y="4343400"/>
              <a:ext cx="838080" cy="990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77120" y="1828800"/>
              <a:ext cx="1066680" cy="1066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6575400" y="2209680"/>
                  <a:ext cx="9334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4" name=""/>
            <p:cNvSpPr/>
            <p:nvPr/>
          </p:nvSpPr>
          <p:spPr>
            <a:xfrm>
              <a:off x="6477120" y="4267080"/>
              <a:ext cx="780840" cy="7383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77120" y="4267080"/>
              <a:ext cx="1066680" cy="10670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5120" y="4267080"/>
              <a:ext cx="780840" cy="7383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00200" y="4267080"/>
              <a:ext cx="1066680" cy="10670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05120" y="2209680"/>
              <a:ext cx="780840" cy="7383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00200" y="1828800"/>
              <a:ext cx="1066680" cy="1066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00200" y="1828800"/>
            <a:ext cx="6854760" cy="3657600"/>
            <a:chOff x="1600200" y="1828800"/>
            <a:chExt cx="6854760" cy="3657600"/>
          </a:xfrm>
        </p:grpSpPr>
        <p:sp>
          <p:nvSpPr>
            <p:cNvPr id="183" name=""/>
            <p:cNvSpPr/>
            <p:nvPr/>
          </p:nvSpPr>
          <p:spPr>
            <a:xfrm>
              <a:off x="1905120" y="2209680"/>
              <a:ext cx="5343480" cy="277344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7300800" y="2971800"/>
                  <a:ext cx="115416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4165560" y="5011560"/>
                  <a:ext cx="84780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6477120" y="2209680"/>
              <a:ext cx="780840" cy="738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29400" y="4343400"/>
              <a:ext cx="628560" cy="593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5120" y="4419720"/>
              <a:ext cx="628560" cy="593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05120" y="2209680"/>
              <a:ext cx="628560" cy="594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76520" y="1981080"/>
              <a:ext cx="838080" cy="792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76520" y="4419720"/>
              <a:ext cx="838080" cy="990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29400" y="4343400"/>
              <a:ext cx="838080" cy="990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77120" y="1828800"/>
              <a:ext cx="1066680" cy="1066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6575400" y="2209680"/>
                  <a:ext cx="9334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5" name=""/>
            <p:cNvSpPr/>
            <p:nvPr/>
          </p:nvSpPr>
          <p:spPr>
            <a:xfrm>
              <a:off x="6477120" y="4267080"/>
              <a:ext cx="780840" cy="7383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1066680" cy="10670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05120" y="4267080"/>
              <a:ext cx="780840" cy="7383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00200" y="4267080"/>
              <a:ext cx="1066680" cy="10670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5120" y="2209680"/>
              <a:ext cx="780840" cy="7383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00200" y="1828800"/>
              <a:ext cx="1066680" cy="1066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CCSS</cp:lastModifiedBy>
  <dcterms:modified xsi:type="dcterms:W3CDTF">2002-04-10T10:59:03Z</dcterms:modified>
  <cp:revision>49</cp:revision>
  <dc:subject/>
  <dc:title>No Slide Title</dc:title>
</cp:coreProperties>
</file>